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21F3-62BD-4525-AB46-1F770AB0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tart out by highlighting significant trends in air pollution monitoring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we will describe an agile information system architecture for air quality decision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e will show the application of this architecture and technologies for two use cases: a real time smoke event analysis and a long-term model eval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8B48-47E9-4371-B627-452A44AE7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r quality applications considered for AIP II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l-time information service to the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ory analysis for mainta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mispheric transport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science and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2A25-2CCB-4947-A4C4-354E895DA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BA4-A1C3-49BA-A3F8-5BB5EBCB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EDC-E361-4D19-A44D-7A86C8F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D78-8B27-4311-B808-1C1A9AA0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E71-F025-4255-92D0-0C7413AD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A71-E6FC-487F-A087-04D6796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5FF-08BB-4AE2-BB0E-226E6DA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6B1-D2F9-407A-BB40-7BB79DE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F8B-84FB-422D-9191-E068AB58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21F-D5E7-49CE-94FC-2F91AB87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4CC-DD74-4682-94C6-02C956B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8A9-D5D9-4BB3-BE92-9F0AB0C1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260-B36A-4BA8-A481-8B485A5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datafed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16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3D0-28DE-44B3-B29C-30CF6D81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6662880"/>
            <a:ext cx="914400" cy="195120"/>
          </a:xfrm>
          <a:prstGeom prst="rect">
            <a:avLst/>
          </a:prstGeom>
          <a:ln w="12600">
            <a:solidFill>
              <a:srgbClr val="66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TAP Data Network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gress Report, Jun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4360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IP Summer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uly 8, 2009, Santa Barbara,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1911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dolf B. Hus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ashington U.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tin Schult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 FZ Jeulich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eg Leptouk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NASA GSFC,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514520"/>
            <a:ext cx="71629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3000" y="1522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of HTAP-Giovanni Analysis and 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O3map"/>
          <p:cNvPicPr/>
          <p:nvPr/>
        </p:nvPicPr>
        <p:blipFill>
          <a:blip r:embed="rId1"/>
          <a:stretch/>
        </p:blipFill>
        <p:spPr>
          <a:xfrm>
            <a:off x="579600" y="838080"/>
            <a:ext cx="3992400" cy="285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O3dif"/>
          <p:cNvPicPr/>
          <p:nvPr/>
        </p:nvPicPr>
        <p:blipFill>
          <a:blip r:embed="rId2"/>
          <a:stretch/>
        </p:blipFill>
        <p:spPr>
          <a:xfrm>
            <a:off x="533520" y="4038480"/>
            <a:ext cx="4038480" cy="2600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57200" y="685800"/>
            <a:ext cx="38862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-averaged ozone for SR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3657600"/>
            <a:ext cx="4572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-avg. difference between SR1 and SR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3124080" y="5105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5334120" y="1600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Zonal"/>
          <p:cNvPicPr/>
          <p:nvPr/>
        </p:nvPicPr>
        <p:blipFill>
          <a:blip r:embed="rId3"/>
          <a:stretch/>
        </p:blipFill>
        <p:spPr>
          <a:xfrm>
            <a:off x="5257800" y="4343400"/>
            <a:ext cx="3689280" cy="220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TS"/>
          <p:cNvPicPr/>
          <p:nvPr/>
        </p:nvPicPr>
        <p:blipFill>
          <a:blip r:embed="rId4"/>
          <a:stretch/>
        </p:blipFill>
        <p:spPr>
          <a:xfrm>
            <a:off x="5257800" y="1082520"/>
            <a:ext cx="3602160" cy="2346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943600" y="609480"/>
            <a:ext cx="14479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095880" y="3809880"/>
            <a:ext cx="15242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onal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ge Questions for the Present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898560"/>
            <a:ext cx="84582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user needs are you focused on now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Q data ubiquitous through seamless access,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lly to support HTAP, Exceptional Event R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web services are you offer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WCS access to model, obs., emission. Data (100+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able data wrapper templates, tools for WCS, W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services you wish were available?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data accessible through standard WCS, W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are useless without data to operate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infrastructure is most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ter data catalog, metadata and tools for bo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alog-catalog connectivity tools metho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are barriers to comm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options, no dominant design, ever-changing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incentives to overcome the ‘energy barrier’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TAP Problem: Model-Observation-Emission Closu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 to user data and ap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 to GEOSS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istency of HTAP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7652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iform access to ES dat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Verdana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Verdana"/>
              </a:rPr>
              <a:t>Satellite, surface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Verdana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1104840"/>
            <a:ext cx="4114440" cy="4647960"/>
            <a:chOff x="0" y="1104840"/>
            <a:chExt cx="4114440" cy="4647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rcRect l="0" t="11607" r="0" b="0"/>
            <a:stretch/>
          </p:blipFill>
          <p:spPr>
            <a:xfrm>
              <a:off x="0" y="1104840"/>
              <a:ext cx="411444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2080" y="1981440"/>
              <a:ext cx="1424160" cy="78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880" y="4174200"/>
              <a:ext cx="1424160" cy="78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53040" y="3121920"/>
              <a:ext cx="1344960" cy="10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085920" y="2858760"/>
              <a:ext cx="0" cy="1403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09680" y="896760"/>
            <a:ext cx="6712200" cy="596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828880" y="228600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752560" y="1981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66960" y="1600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14880" y="1447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77200" y="1905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81560" y="1600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334200" y="1905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477200" y="2209680"/>
            <a:ext cx="99036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191200" y="1752480"/>
            <a:ext cx="1006560" cy="6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895560" y="190512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666880" y="4724280"/>
            <a:ext cx="1447920" cy="642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ing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129528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forc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724280"/>
            <a:ext cx="1371600" cy="642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mispheric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478320" y="4191120"/>
            <a:ext cx="798480" cy="51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033880" y="4348080"/>
            <a:ext cx="184320" cy="34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6120" y="4199040"/>
            <a:ext cx="1006560" cy="44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54100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l-tim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gulato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lic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43880" y="4703760"/>
            <a:ext cx="1447560" cy="642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mospheric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5365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ience &amp;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94520" y="4408560"/>
            <a:ext cx="162000" cy="299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03400" y="263520"/>
            <a:ext cx="41068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OSS Information Infrastru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0574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dataset is applicable to multiple 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6483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applications requires multiple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ata Access Interfa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31212" r="0" b="0"/>
          <a:stretch/>
        </p:blipFill>
        <p:spPr>
          <a:xfrm>
            <a:off x="5410080" y="2666880"/>
            <a:ext cx="300528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105520" y="1219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S Data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934320" y="213372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60020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coupled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34340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-Time Qu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1295280"/>
            <a:ext cx="243828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676520"/>
            <a:ext cx="2438640" cy="703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ovanni          web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914400"/>
            <a:ext cx="2438280" cy="3988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LU E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ovanni for HTA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gory Leptouk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ovanni is a Web-based application to visualize, analyze, Earth scie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TAP-Giovann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a portal for visualization and analysis of HTAP multi-model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04920" y="55627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AP-Giovanni User Interface allows selection of second variable for inter-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htap3"/>
          <p:cNvPicPr/>
          <p:nvPr/>
        </p:nvPicPr>
        <p:blipFill>
          <a:blip r:embed="rId1"/>
          <a:stretch/>
        </p:blipFill>
        <p:spPr>
          <a:xfrm>
            <a:off x="304920" y="0"/>
            <a:ext cx="792324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380880" y="2971800"/>
            <a:ext cx="7467840" cy="10666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H="1" flipV="1">
            <a:off x="6857640" y="4038480"/>
            <a:ext cx="1143000" cy="1524240"/>
          </a:xfrm>
          <a:prstGeom prst="line">
            <a:avLst/>
          </a:prstGeom>
          <a:ln w="63360">
            <a:solidFill>
              <a:srgbClr val="ff3f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4:07:58Z</dcterms:created>
  <dc:creator> </dc:creator>
  <dc:description/>
  <dc:language>en-US</dc:language>
  <cp:lastModifiedBy> </cp:lastModifiedBy>
  <dcterms:modified xsi:type="dcterms:W3CDTF">2009-07-08T19:43:03Z</dcterms:modified>
  <cp:revision>31</cp:revision>
  <dc:subject/>
  <dc:title>Slide 1</dc:title>
</cp:coreProperties>
</file>